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0F8B-0A4C-49DF-80D8-448FCCBD19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8AA-15D0-4EF6-AC70-1A0FA5B1D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7CC-A83F-4A54-983D-3E2B56C21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FC7-267B-4373-82CC-2996812F7E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E4B-F057-4B8E-A81D-43AA9D2766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2F5-E2A8-4D2B-A669-DFC0F646C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3BA-E0EF-4A59-8217-41C4310EF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BDDB-50EB-4BBA-A80E-4C1FE1D9E1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98AD-1A4C-4CD2-8254-B0CBB8B4E4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738-06DC-4AE2-8593-7FE0C73F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813-050B-4771-9CB9-5E1BC7D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AFD-1A1E-4C14-AAAF-64D84E2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CC2-E6BC-4EFD-8D84-A0E4BCFC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BDE9-8E2E-47FA-9FB8-C752C78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1F7-4354-41BB-889A-5CBAFF6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1246-91D9-4164-AAA2-D2A682B2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17AD-3FD6-44A6-8C7E-CDFB2738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5A4-161D-434A-A886-AEA2760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DEF-87A2-44B4-88F2-FF665C55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28B-8EA1-4B02-8B79-A406F33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C60-31F1-46BB-9F4D-2A1711E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AF5-29CE-4596-B62F-FCED42D8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A975-0726-4DF8-BED1-82ED2AE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124-05D6-4D36-B6F6-4CDD2D6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BAD0-8515-4BFC-B31D-6A91A098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723B-5AB1-4DB1-89DF-CF0F0596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6E1-52E8-47B2-B9DC-A421A0E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A6A-4A45-48F4-9924-3F49DCBA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34D-5D3E-4339-8E14-1E4C4C7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090-C60C-42EE-B2E8-CF4BF19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CEF-6FA7-4801-872C-0975F09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EC7-C6EB-4AB3-AE89-24FD8C1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BFA-FBE9-4D1D-8A5E-708B5630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6B2-27F2-4529-BCF1-B90271DDE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149-103A-436C-B104-A01B02AD4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857240" y="2714760"/>
            <a:ext cx="70725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О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97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785960" y="2857680"/>
            <a:ext cx="7143840" cy="135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6"/>
          <p:cNvSpPr/>
          <p:nvPr/>
        </p:nvSpPr>
        <p:spPr>
          <a:xfrm flipH="1">
            <a:off x="264276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 flipH="1">
            <a:off x="249984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 flipH="1">
            <a:off x="257184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0"/>
          <p:cNvSpPr/>
          <p:nvPr/>
        </p:nvSpPr>
        <p:spPr>
          <a:xfrm flipH="1">
            <a:off x="271260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6"/>
          <p:cNvSpPr/>
          <p:nvPr/>
        </p:nvSpPr>
        <p:spPr>
          <a:xfrm>
            <a:off x="3714120" y="31431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8"/>
          <p:cNvSpPr/>
          <p:nvPr/>
        </p:nvSpPr>
        <p:spPr>
          <a:xfrm>
            <a:off x="371484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0"/>
          <p:cNvSpPr/>
          <p:nvPr/>
        </p:nvSpPr>
        <p:spPr>
          <a:xfrm>
            <a:off x="3714120" y="357192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82"/>
          <p:cNvSpPr/>
          <p:nvPr/>
        </p:nvSpPr>
        <p:spPr>
          <a:xfrm>
            <a:off x="3714840" y="371484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84"/>
          <p:cNvSpPr/>
          <p:nvPr/>
        </p:nvSpPr>
        <p:spPr>
          <a:xfrm>
            <a:off x="4429080" y="3000240"/>
            <a:ext cx="28584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86"/>
          <p:cNvSpPr/>
          <p:nvPr/>
        </p:nvSpPr>
        <p:spPr>
          <a:xfrm>
            <a:off x="42141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94"/>
          <p:cNvSpPr/>
          <p:nvPr/>
        </p:nvSpPr>
        <p:spPr>
          <a:xfrm>
            <a:off x="485784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96"/>
          <p:cNvSpPr/>
          <p:nvPr/>
        </p:nvSpPr>
        <p:spPr>
          <a:xfrm>
            <a:off x="485784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8"/>
          <p:cNvSpPr/>
          <p:nvPr/>
        </p:nvSpPr>
        <p:spPr>
          <a:xfrm>
            <a:off x="485784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0"/>
          <p:cNvSpPr/>
          <p:nvPr/>
        </p:nvSpPr>
        <p:spPr>
          <a:xfrm>
            <a:off x="485784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02"/>
          <p:cNvSpPr/>
          <p:nvPr/>
        </p:nvSpPr>
        <p:spPr>
          <a:xfrm>
            <a:off x="485784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04"/>
          <p:cNvSpPr/>
          <p:nvPr/>
        </p:nvSpPr>
        <p:spPr>
          <a:xfrm>
            <a:off x="485784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06"/>
          <p:cNvSpPr/>
          <p:nvPr/>
        </p:nvSpPr>
        <p:spPr>
          <a:xfrm>
            <a:off x="485784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08"/>
          <p:cNvSpPr/>
          <p:nvPr/>
        </p:nvSpPr>
        <p:spPr>
          <a:xfrm>
            <a:off x="485784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14"/>
          <p:cNvSpPr/>
          <p:nvPr/>
        </p:nvSpPr>
        <p:spPr>
          <a:xfrm flipH="1">
            <a:off x="500076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16"/>
          <p:cNvSpPr/>
          <p:nvPr/>
        </p:nvSpPr>
        <p:spPr>
          <a:xfrm flipH="1">
            <a:off x="514368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45"/>
          <p:cNvSpPr/>
          <p:nvPr/>
        </p:nvSpPr>
        <p:spPr>
          <a:xfrm>
            <a:off x="642924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47"/>
          <p:cNvSpPr/>
          <p:nvPr/>
        </p:nvSpPr>
        <p:spPr>
          <a:xfrm>
            <a:off x="642924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49"/>
          <p:cNvSpPr/>
          <p:nvPr/>
        </p:nvSpPr>
        <p:spPr>
          <a:xfrm>
            <a:off x="642924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51"/>
          <p:cNvSpPr/>
          <p:nvPr/>
        </p:nvSpPr>
        <p:spPr>
          <a:xfrm>
            <a:off x="642924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53"/>
          <p:cNvSpPr/>
          <p:nvPr/>
        </p:nvSpPr>
        <p:spPr>
          <a:xfrm>
            <a:off x="642924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55"/>
          <p:cNvSpPr/>
          <p:nvPr/>
        </p:nvSpPr>
        <p:spPr>
          <a:xfrm>
            <a:off x="642924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57"/>
          <p:cNvSpPr/>
          <p:nvPr/>
        </p:nvSpPr>
        <p:spPr>
          <a:xfrm>
            <a:off x="642924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59"/>
          <p:cNvSpPr/>
          <p:nvPr/>
        </p:nvSpPr>
        <p:spPr>
          <a:xfrm>
            <a:off x="642924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61"/>
          <p:cNvSpPr/>
          <p:nvPr/>
        </p:nvSpPr>
        <p:spPr>
          <a:xfrm>
            <a:off x="642924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48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О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74595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br>
              <a:rPr sz="4400"/>
            </a:b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9432b"/>
                </a:solidFill>
                <a:latin typeface="Times New Roman"/>
              </a:rPr>
              <a:t>Обведи шарики с буквой О красным цветом. </a:t>
            </a:r>
            <a:br>
              <a:rPr sz="2000"/>
            </a:br>
            <a:r>
              <a:rPr b="1" lang="ru-RU" sz="2000" spc="-1" strike="noStrike">
                <a:solidFill>
                  <a:srgbClr val="a9432b"/>
                </a:solidFill>
                <a:latin typeface="Times New Roman"/>
              </a:rPr>
              <a:t>  Проведи ниточки от шариков к ослик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46b86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3880" y="2778120"/>
          <a:ext cx="6096240" cy="1301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01760">
                <a:tc>
                  <a:txBody>
                    <a:bodyPr lIns="2985840" rIns="2985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985840" marR="2985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70009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318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16:39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